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A1169-5032-4977-9AEE-68E8286F8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0E542-2638-47D9-A5A1-74C01B8E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FBA0B-16F5-4DD1-ADFC-C61F6071C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73B24-E40A-4501-80DC-0E5104AE9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A8066-E70E-499E-BE0E-7DF3D4B4B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EC90-B1F1-4539-A35B-E972BD035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74CA-093D-4413-8377-C20CADE9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EAB6-1CC2-48B5-BBCF-19DA8EC3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41D32-8054-4564-BD00-02899C39F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C5C7-9CB1-4E05-A893-945D526A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6AE3-86E7-4C16-AB96-D5B68D66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2F22-FA2A-4C38-A98F-FD14DEE0D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41" name=""/>
          <p:cNvSpPr/>
          <p:nvPr/>
        </p:nvSpPr>
        <p:spPr>
          <a:xfrm>
            <a:off x="533520" y="304920"/>
            <a:ext cx="8229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990000"/>
                </a:solidFill>
                <a:latin typeface="Times New Roman"/>
              </a:rPr>
              <a:t>The subtitling of an Italian soap opera</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00"/>
                </a:solidFill>
                <a:latin typeface="Times New Roman"/>
              </a:rPr>
              <a:t>Chris Taylor, University of Trieste</a:t>
            </a:r>
            <a:endParaRPr b="0" lang="en-US" sz="3600" spc="-1" strike="noStrike">
              <a:solidFill>
                <a:srgbClr val="000000"/>
              </a:solidFill>
              <a:latin typeface="Times New Roman"/>
            </a:endParaRPr>
          </a:p>
        </p:txBody>
      </p:sp>
      <p:sp>
        <p:nvSpPr>
          <p:cNvPr id="42" name=""/>
          <p:cNvSpPr/>
          <p:nvPr/>
        </p:nvSpPr>
        <p:spPr>
          <a:xfrm>
            <a:off x="6934320" y="54100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Workshop on Multimodality, ISFC 27, Melbourne</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219320" y="2286000"/>
            <a:ext cx="487656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62" name=""/>
          <p:cNvSpPr/>
          <p:nvPr/>
        </p:nvSpPr>
        <p:spPr>
          <a:xfrm>
            <a:off x="0" y="380880"/>
            <a:ext cx="9144000" cy="698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990000"/>
                </a:solidFill>
                <a:uFillTx/>
                <a:latin typeface="Times New Roman"/>
                <a:ea typeface="Times New Roman"/>
              </a:rPr>
              <a:t>Un Posto al Sol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ea typeface="Times New Roman"/>
              </a:rPr>
              <a:t>(minimum subtitl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Giulia...</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This is madnes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Giulia</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Let's just talk.</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You're always telling me to "calm down“</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Now, look!</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Angela</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What!?</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Is living with Franco a cri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For us...</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a stab in the back!</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Angela</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How melodramatic!</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You asked me what I wante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What?</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ask you... what you wan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Angela</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Should I have said...</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I wanted a car?!... a horse?!...a dres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You're making fun of me?</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You won't get awa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Giulia</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Listen, OK</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Let's tr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I know...  Keep cal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Giulia</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Well! Maybe we're exaggerating.</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Angela's not sure... maybe whe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she leaves colle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Angela</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Mum!  Stop it!</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I want to do it now!</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Listen... "I want" ...  "now“</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These are the terms she us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Renato</a:t>
            </a:r>
            <a:r>
              <a:rPr b="0" lang="en-GB"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And these are the results.</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Damn that bastard!!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63" name=""/>
          <p:cNvSpPr/>
          <p:nvPr/>
        </p:nvSpPr>
        <p:spPr>
          <a:xfrm>
            <a:off x="0" y="171360"/>
            <a:ext cx="9144000" cy="70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Renato</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Giulia, I'm not with you...</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This isn't a wish, it's sheer madnes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Renato</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Giuli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This is madnes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The vocative 'Giulia' is kept as the opening exhortation, and Renato's views on the matter in hand are made clear by his use of the term 'madness'. The other elements add nothing to the basic thesis. His use of that single term and his tone of voice make it also clear that he knows Giulia is not entirely on his sid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Giulia</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Calm down. Let's talk...</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without getting angry.</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Giulia</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Let's just talk.</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Giulia's hand movements and mildly exasperated expression show that she is exhorting Renato to get a grip on himself, while he is showing clearly by his gesticulations and pacing around that he is losing that grip. The simple 'Let's just talk' is sufficient to carry this, and is important in that it establishes Giulia's temporary role as the peacemake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Renato</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You've been telling me to be calm all my lif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and this is what happen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Renato</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You're always telling me to "calm dow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Now, look!</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The same information can be provided a little more succinctly. The change in Renato's facial expression, the demonstrative hand movements and the change in tone of voice all help to fill in the gaps and to create the contrast between him and Giuli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Angela</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What are you talking abou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Is living with Franco a crim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Angela</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Wh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	</a:t>
            </a:r>
            <a:r>
              <a:rPr b="0" lang="en-GB" sz="1200" spc="-1" strike="noStrike">
                <a:solidFill>
                  <a:srgbClr val="000000"/>
                </a:solidFill>
                <a:latin typeface="New York"/>
                <a:ea typeface="Times New Roman"/>
              </a:rPr>
              <a:t>Is living with Franco a crim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The second line is kept intact in that this is the key topic of the entire scene and of several scenes to 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
          <p:cNvSpPr/>
          <p:nvPr/>
        </p:nvSpPr>
        <p:spPr>
          <a:xfrm>
            <a:off x="5105520" y="3808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00"/>
                </a:solidFill>
                <a:latin typeface="Times New Roman"/>
              </a:rPr>
              <a:t>Subtitling criteria (p.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65" name=""/>
          <p:cNvSpPr/>
          <p:nvPr/>
        </p:nvSpPr>
        <p:spPr>
          <a:xfrm>
            <a:off x="0" y="185760"/>
            <a:ext cx="9144000" cy="630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For your mother and m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it's like a stab in the bac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For u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a stab in the bac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Here a straightforward cutting of superfluous material is all that is necessary. The melodramatic choice of words is echoed in the teeth clenching of Renato and the worried look of Giuli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Angel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You love being melodramatic!</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You asked me what I want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Angel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How melodramatic!</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You asked me what I want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Here little cutting is affected as the second line is again very important as it brings in the key word 'want'. The non-casual choice of term 'melodramatic' is reinforced by Angela's rather theatrical indignant stances and expression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What are you talking abou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How could you think someone could ask you...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what you want to... to... to?</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Wh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ask you... what you wan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Renato's expression and exaggerated hand movements carry the force of his question; similarly his agitation is consonant with his garbled delivery, which is understandable in itself without the need for what Gottlieb calls 'transcriptio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Angel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No, wait. What should I have sai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that I wanted a car?!... a horse?!...or a nice little dres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Angel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Should I have sai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I wanted a car?!... a horse?!...a dres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The sarcasm in Angela's voice and her provocative movements allow for certain cuts but the list of items remains in order to catch the pointedly punctuated delive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a:off x="5105520" y="3808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00"/>
                </a:solidFill>
                <a:latin typeface="Times New Roman"/>
              </a:rPr>
              <a:t>Subtitling criteria (p.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67" name=""/>
          <p:cNvSpPr/>
          <p:nvPr/>
        </p:nvSpPr>
        <p:spPr>
          <a:xfrm>
            <a:off x="0" y="95400"/>
            <a:ext cx="9144000" cy="685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You're making fun of m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Don't think I'm letting you off scot-fre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You're making fun of m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You won't get awa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The first line remains in full as it is spoken with Renato off-screen, so there are no other visual clues. The second expression has been substituted for condensation purposes - the English speaking audience can easily fill in the end of the well known colloquialis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Giuli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Listen, Renato, O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I agree, but please, let's tr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Giuli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Listen, O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Let's tr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Giulia's resigned and rather pained expression show that she is trying to placate Renato; the various utterances are not of content value and can be clearly distinguished aurally. The interpersonal message is clear, the vocative 'Renato' redundan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I know, Giulia...  Keep calm... sur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as you can see, I'm really calm.</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Renato</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I know...  Keep calm</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Having already heard Renato being ironic about keeping calm we can see from his expressions that he is doing so agai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One (max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Giuli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So,  maybe we're all exaggerating.</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Giuli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Angela's not sure about </a:t>
            </a:r>
            <a:r>
              <a:rPr b="0" i="1" lang="en-GB" sz="1000" spc="-1" strike="noStrike">
                <a:solidFill>
                  <a:srgbClr val="000000"/>
                </a:solidFill>
                <a:latin typeface="New York"/>
                <a:ea typeface="Times New Roman"/>
              </a:rPr>
              <a:t>this thing</a:t>
            </a:r>
            <a:r>
              <a:rPr b="0" lang="en-GB" sz="1000" spc="-1" strike="noStrike">
                <a:solidFill>
                  <a:srgbClr val="000000"/>
                </a:solidFill>
                <a:latin typeface="New York"/>
                <a:ea typeface="Times New Roman"/>
              </a:rPr>
              <a:t> she's thinking of.</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Maybe when she leaves colleg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New York"/>
                <a:ea typeface="Times New Roman"/>
              </a:rPr>
              <a:t>Version Two (minimum subtit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Giulia</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Well!  Maybe we're exaggerating.</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	</a:t>
            </a:r>
            <a:r>
              <a:rPr b="0" lang="en-GB" sz="1000" spc="-1" strike="noStrike">
                <a:solidFill>
                  <a:srgbClr val="000000"/>
                </a:solidFill>
                <a:latin typeface="New York"/>
                <a:ea typeface="Times New Roman"/>
              </a:rPr>
              <a:t>Angela's not sure... maybe when she leaves colleg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The opening 'Well!' is important as it marks Giulia's determined entry into the argument. The middle part can be left out, especially as Giulia's back is turned to the camera as she pronounces it. The 'this thing' ('questa cosa') is important in the Italian text, as it is picked up again by Angela, but does not have the same effect in English. On the other hand, the classic 'when she finishes college' is necessary as it is is Angela's cu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
          <p:cNvSpPr/>
          <p:nvPr/>
        </p:nvSpPr>
        <p:spPr>
          <a:xfrm>
            <a:off x="5105520" y="3808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00"/>
                </a:solidFill>
                <a:latin typeface="Times New Roman"/>
              </a:rPr>
              <a:t>Subtitling criteria (p.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69" name=""/>
          <p:cNvSpPr/>
          <p:nvPr/>
        </p:nvSpPr>
        <p:spPr>
          <a:xfrm>
            <a:off x="0" y="977760"/>
            <a:ext cx="9144000" cy="621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New York"/>
                <a:ea typeface="Times New Roman"/>
              </a:rPr>
              <a:t>Version One (maximum subtit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Angela</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Mum!  Stop messing abou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I want to do </a:t>
            </a:r>
            <a:r>
              <a:rPr b="0" i="1" lang="en-GB" sz="1400" spc="-1" strike="noStrike">
                <a:solidFill>
                  <a:srgbClr val="000000"/>
                </a:solidFill>
                <a:latin typeface="New York"/>
                <a:ea typeface="Times New Roman"/>
              </a:rPr>
              <a:t>this thing</a:t>
            </a:r>
            <a:r>
              <a:rPr b="0" lang="en-GB" sz="1400" spc="-1" strike="noStrike">
                <a:solidFill>
                  <a:srgbClr val="000000"/>
                </a:solidFill>
                <a:latin typeface="New York"/>
                <a:ea typeface="Times New Roman"/>
              </a:rPr>
              <a:t>  now! There's no reason to wai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New York"/>
                <a:ea typeface="Times New Roman"/>
              </a:rPr>
              <a:t>Version Two (minimum subtit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Angela</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Mum!  Stop i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I want to do it now!</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Angela's close-up expression can be matched to the simple 'Mum! Stop it!' - it is sufficiently forceful. The determination she then shows with her contorted expression comes over with just 'I want to do it now' - it is clear to what she is referr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New York"/>
                <a:ea typeface="Times New Roman"/>
              </a:rPr>
              <a:t>Version One (maximum subtit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Renato</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You hear? "I want" ...  "now". These are the terms she us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And these are the result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New York"/>
                <a:ea typeface="Times New Roman"/>
              </a:rPr>
              <a:t>Version Two (minimum subtit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Renato</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Listen... "I want" ...  "now"</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These are the terms she uses!  And these are the result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This is an important scene as Renato loses control and throws the books to the floor. The wording punctuates his ac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New York"/>
                <a:ea typeface="Times New Roman"/>
              </a:rPr>
              <a:t>Version One (maximum subtit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Renato</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Damn the day you met that bastar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New York"/>
                <a:ea typeface="Times New Roman"/>
              </a:rPr>
              <a:t>Version Two (minimum subtit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Renato</a:t>
            </a:r>
            <a:r>
              <a:rPr b="0" lang="en-GB" sz="1400" spc="-1" strike="noStrike">
                <a:solidFill>
                  <a:srgbClr val="000000"/>
                </a:solidFill>
                <a:latin typeface="New York"/>
                <a:ea typeface="Times New Roman"/>
              </a:rPr>
              <a:t>	</a:t>
            </a:r>
            <a:r>
              <a:rPr b="0" lang="en-GB" sz="1400" spc="-1" strike="noStrike">
                <a:solidFill>
                  <a:srgbClr val="000000"/>
                </a:solidFill>
                <a:latin typeface="New York"/>
                <a:ea typeface="Times New Roman"/>
              </a:rPr>
              <a:t>Damn that bastar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The sadness and anger come over with just the swear words, added to the pained expresions of all three characters. this is a typical break point in a series - we know that row is going to continu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York"/>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5105520" y="3808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00"/>
                </a:solidFill>
                <a:latin typeface="Times New Roman"/>
              </a:rPr>
              <a:t>Subtitling criteria (p.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533520" y="1371240"/>
            <a:ext cx="7772400" cy="1981080"/>
          </a:xfrm>
          <a:prstGeom prst="rect">
            <a:avLst/>
          </a:prstGeom>
          <a:noFill/>
          <a:ln w="0">
            <a:noFill/>
          </a:ln>
        </p:spPr>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1) it fits in with the pre-announced theme of generational </a:t>
            </a:r>
            <a:r>
              <a:rPr b="0" lang="it-IT"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conflic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2) it is short and self-contained, even though the story is </a:t>
            </a:r>
            <a:r>
              <a:rPr b="0" lang="it-IT"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ongoing;</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3) the fact that the story is ongoing means the analysis can </a:t>
            </a:r>
            <a:r>
              <a:rPr b="0" lang="it-IT"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be continue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4) the scene contains a great deal of non-verbal semiosis </a:t>
            </a:r>
            <a:r>
              <a:rPr b="0" lang="it-IT"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gesture, facial movement, music, realia, visual tricks, </a:t>
            </a:r>
            <a:r>
              <a:rPr b="0" lang="it-IT"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etc.)</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5) there are similarities with scenes studied in the </a:t>
            </a:r>
            <a:r>
              <a:rPr b="0" lang="it-IT"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preceding 'Eastenders' projec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New York"/>
                <a:ea typeface="Times New Roman"/>
              </a:rPr>
              <a:t> </a:t>
            </a:r>
            <a:endParaRPr b="0" lang="en-US" sz="2400" spc="-1" strike="noStrike">
              <a:solidFill>
                <a:srgbClr val="000000"/>
              </a:solidFill>
              <a:latin typeface="Times New Roman"/>
            </a:endParaRPr>
          </a:p>
        </p:txBody>
      </p:sp>
      <p:sp>
        <p:nvSpPr>
          <p:cNvPr id="45" name=""/>
          <p:cNvSpPr/>
          <p:nvPr/>
        </p:nvSpPr>
        <p:spPr>
          <a:xfrm>
            <a:off x="45720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00"/>
                </a:solidFill>
                <a:latin typeface="Times New Roman"/>
              </a:rPr>
              <a:t>Choice of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46" name=""/>
          <p:cNvSpPr/>
          <p:nvPr/>
        </p:nvSpPr>
        <p:spPr>
          <a:xfrm>
            <a:off x="0" y="838080"/>
            <a:ext cx="9144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Scene a casa Poggi</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Scena n° 1:</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enato Poggi: </a:t>
            </a:r>
            <a:r>
              <a:rPr b="0" lang="fr-FR" sz="1600" spc="-1" strike="noStrike">
                <a:solidFill>
                  <a:srgbClr val="000000"/>
                </a:solidFill>
                <a:latin typeface="Times New Roman"/>
                <a:ea typeface="Times New Roman"/>
              </a:rPr>
              <a:t>Senti, Giulia, forse io non ho capito bene...questo non è un desiderio, questa è una pazzia.</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Giulia Poggi:</a:t>
            </a:r>
            <a:r>
              <a:rPr b="0" lang="fr-FR" sz="1600" spc="-1" strike="noStrike">
                <a:solidFill>
                  <a:srgbClr val="000000"/>
                </a:solidFill>
                <a:latin typeface="Times New Roman"/>
                <a:ea typeface="Times New Roman"/>
              </a:rPr>
              <a:t> Renato, calmati. Non partire in quarta come tuo solito. Cerchiamo di discutere senza alterarci.</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enato:</a:t>
            </a:r>
            <a:r>
              <a:rPr b="0" lang="fr-FR" sz="1600" spc="-1" strike="noStrike">
                <a:solidFill>
                  <a:srgbClr val="000000"/>
                </a:solidFill>
                <a:latin typeface="Times New Roman"/>
                <a:ea typeface="Times New Roman"/>
              </a:rPr>
              <a:t> Senti, ma tu è una vita che mi dici sempre la stessa cosa...la calma, la delicatezza,...ed ecco le conseguenze!</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Angela Poggi:</a:t>
            </a:r>
            <a:r>
              <a:rPr b="0" lang="fr-FR" sz="1600" spc="-1" strike="noStrike">
                <a:solidFill>
                  <a:srgbClr val="000000"/>
                </a:solidFill>
                <a:latin typeface="Times New Roman"/>
                <a:ea typeface="Times New Roman"/>
              </a:rPr>
              <a:t> Quali conseguenze, scusami? Perché?E’ un crimine andare a vivere con Franco?</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enato:</a:t>
            </a:r>
            <a:r>
              <a:rPr b="0" lang="fr-FR" sz="1600" spc="-1" strike="noStrike">
                <a:solidFill>
                  <a:srgbClr val="000000"/>
                </a:solidFill>
                <a:latin typeface="Times New Roman"/>
                <a:ea typeface="Times New Roman"/>
              </a:rPr>
              <a:t> Per me e tua madre è come se fosse una pugnalata.</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Angela:</a:t>
            </a:r>
            <a:r>
              <a:rPr b="0" lang="fr-FR" sz="1600" spc="-1" strike="noStrike">
                <a:solidFill>
                  <a:srgbClr val="000000"/>
                </a:solidFill>
                <a:latin typeface="Times New Roman"/>
                <a:ea typeface="Times New Roman"/>
              </a:rPr>
              <a:t> Oh, come ti piace fare il drammatico! Non ho capito...mi hai chiesto tu quello che volevo...</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enato:</a:t>
            </a:r>
            <a:r>
              <a:rPr b="0" lang="fr-FR" sz="1600" spc="-1" strike="noStrike">
                <a:solidFill>
                  <a:srgbClr val="000000"/>
                </a:solidFill>
                <a:latin typeface="Times New Roman"/>
                <a:ea typeface="Times New Roman"/>
              </a:rPr>
              <a:t> Ma che stai dicendo?...Ma come puoi mai pensare che uno ti dice quello che volevi pe..pe...pe...</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Angela:</a:t>
            </a:r>
            <a:r>
              <a:rPr b="0" lang="fr-FR" sz="1600" spc="-1" strike="noStrike">
                <a:solidFill>
                  <a:srgbClr val="000000"/>
                </a:solidFill>
                <a:latin typeface="Times New Roman"/>
                <a:ea typeface="Times New Roman"/>
              </a:rPr>
              <a:t> No, no aspetta...per farti contento che dovevo dirti? Che volevo un auto, un cavallo, oppure un vestitino bellino?</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enato:</a:t>
            </a:r>
            <a:r>
              <a:rPr b="0" lang="fr-FR" sz="1600" spc="-1" strike="noStrike">
                <a:solidFill>
                  <a:srgbClr val="000000"/>
                </a:solidFill>
                <a:latin typeface="Times New Roman"/>
                <a:ea typeface="Times New Roman"/>
              </a:rPr>
              <a:t> Senti, ma che fai? Adesso mi sfotti pure? Non ho capito...guarda che con me non la passi liscia, sai?</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Giulia:</a:t>
            </a:r>
            <a:r>
              <a:rPr b="0" lang="fr-FR" sz="1600" spc="-1" strike="noStrike">
                <a:solidFill>
                  <a:srgbClr val="000000"/>
                </a:solidFill>
                <a:latin typeface="Times New Roman"/>
                <a:ea typeface="Times New Roman"/>
              </a:rPr>
              <a:t> Senti, Renato...d’acco...io ti do ragione...d’accordo, però, per piacere cerchiamo...</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enato:</a:t>
            </a:r>
            <a:r>
              <a:rPr b="0" lang="fr-FR" sz="1600" spc="-1" strike="noStrike">
                <a:solidFill>
                  <a:srgbClr val="000000"/>
                </a:solidFill>
                <a:latin typeface="Times New Roman"/>
                <a:ea typeface="Times New Roman"/>
              </a:rPr>
              <a:t> Ho capito, ho capito Giulia...calma...certo...e come vedi, io sono calmissimo.</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Giulia:</a:t>
            </a:r>
            <a:r>
              <a:rPr b="0" lang="fr-FR" sz="1600" spc="-1" strike="noStrike">
                <a:solidFill>
                  <a:srgbClr val="000000"/>
                </a:solidFill>
                <a:latin typeface="Times New Roman"/>
                <a:ea typeface="Times New Roman"/>
              </a:rPr>
              <a:t> Allora...qui forse stiamo correndo tutti un pochino troppo. Angela non ha le idee chiarissime, va bene? Lei sta pensando a questa cosa....magari tra qualche anno, quando avrà finito gli studi...</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Angela:</a:t>
            </a:r>
            <a:r>
              <a:rPr b="0" lang="fr-FR" sz="1600" spc="-1" strike="noStrike">
                <a:solidFill>
                  <a:srgbClr val="000000"/>
                </a:solidFill>
                <a:latin typeface="Times New Roman"/>
                <a:ea typeface="Times New Roman"/>
              </a:rPr>
              <a:t> Mamma, non ci prendiamo in giro...io “questa cosa” la voglio fare subito e non c’è nessun motivo per aspettare...</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enato:</a:t>
            </a:r>
            <a:r>
              <a:rPr b="0" lang="fr-FR" sz="1600" spc="-1" strike="noStrike">
                <a:solidFill>
                  <a:srgbClr val="000000"/>
                </a:solidFill>
                <a:latin typeface="Times New Roman"/>
                <a:ea typeface="Times New Roman"/>
              </a:rPr>
              <a:t> Hai sentito? “Voglio”, “subito”, ecco...questi sono i termini, e questi sono i risultati! Maledizione al giorno in cui hai incontrato quel disgraziato!</a:t>
            </a:r>
            <a:endParaRPr b="0" lang="en-US" sz="1600" spc="-1" strike="noStrike">
              <a:solidFill>
                <a:srgbClr val="000000"/>
              </a:solidFill>
              <a:latin typeface="Times New Roman"/>
            </a:endParaRPr>
          </a:p>
          <a:p>
            <a:pPr>
              <a:tabLst>
                <a:tab algn="l" pos="0"/>
                <a:tab algn="l" pos="2340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
          <p:cNvSpPr/>
          <p:nvPr/>
        </p:nvSpPr>
        <p:spPr>
          <a:xfrm>
            <a:off x="228600" y="2286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00"/>
                </a:solidFill>
                <a:latin typeface="Times New Roman"/>
              </a:rPr>
              <a:t>Original scrip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48" name=""/>
          <p:cNvSpPr/>
          <p:nvPr/>
        </p:nvSpPr>
        <p:spPr>
          <a:xfrm>
            <a:off x="0" y="762120"/>
            <a:ext cx="9144000" cy="393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it-IT" sz="3600" spc="-1" strike="noStrike">
                <a:solidFill>
                  <a:srgbClr val="990000"/>
                </a:solidFill>
                <a:latin typeface="New York"/>
                <a:ea typeface="Times New Roman"/>
              </a:rPr>
              <a:t>Analysis</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_x001c_ procedur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see technical and linguistic constraint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see Mason (1989);</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_x001c_ strateg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see Gottlieb strateg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see Kovacic (199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ew York"/>
                <a:ea typeface="Times New Roman"/>
              </a:rPr>
              <a:t> </a:t>
            </a:r>
            <a:r>
              <a:rPr b="0" lang="en-GB" sz="2400" spc="-1" strike="noStrike">
                <a:solidFill>
                  <a:srgbClr val="000000"/>
                </a:solidFill>
                <a:latin typeface="New York"/>
                <a:ea typeface="Times New Roman"/>
              </a:rPr>
              <a:t>_x001c_ reaso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 York"/>
                <a:ea typeface="Times New Roman"/>
              </a:rPr>
              <a:t>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49" name=""/>
          <p:cNvSpPr/>
          <p:nvPr/>
        </p:nvSpPr>
        <p:spPr>
          <a:xfrm>
            <a:off x="0" y="228600"/>
            <a:ext cx="9144000" cy="784080"/>
          </a:xfrm>
          <a:prstGeom prst="rect">
            <a:avLst/>
          </a:prstGeom>
          <a:noFill/>
          <a:ln w="9360">
            <a:solidFill>
              <a:srgbClr val="ffff00"/>
            </a:solidFill>
            <a:miter/>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00"/>
                </a:solidFill>
                <a:latin typeface="Times New Roman"/>
              </a:rPr>
              <a:t>A part of the Westpac advert </a:t>
            </a:r>
            <a:r>
              <a:rPr b="0" lang="en-GB" sz="2800" spc="-1" strike="noStrike">
                <a:solidFill>
                  <a:srgbClr val="990000"/>
                </a:solidFill>
                <a:latin typeface="Times New Roman"/>
              </a:rPr>
              <a:t> transcription</a:t>
            </a:r>
            <a:r>
              <a:rPr b="0" lang="it-IT" sz="2800" spc="-1" strike="noStrike">
                <a:solidFill>
                  <a:srgbClr val="990000"/>
                </a:solidFill>
                <a:latin typeface="Times New Roman"/>
              </a:rPr>
              <a:t> </a:t>
            </a:r>
            <a:endParaRPr b="0" lang="en-US" sz="2800" spc="-1" strike="noStrike">
              <a:solidFill>
                <a:srgbClr val="000000"/>
              </a:solidFill>
              <a:latin typeface="Times New Roman"/>
            </a:endParaRPr>
          </a:p>
        </p:txBody>
      </p:sp>
      <p:pic>
        <p:nvPicPr>
          <p:cNvPr id="50" name="west1" descr=""/>
          <p:cNvPicPr/>
          <p:nvPr/>
        </p:nvPicPr>
        <p:blipFill>
          <a:blip r:embed="rId1"/>
          <a:stretch/>
        </p:blipFill>
        <p:spPr>
          <a:xfrm>
            <a:off x="380880" y="1219320"/>
            <a:ext cx="6562800" cy="53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51" name=""/>
          <p:cNvSpPr/>
          <p:nvPr/>
        </p:nvSpPr>
        <p:spPr>
          <a:xfrm>
            <a:off x="0" y="609480"/>
            <a:ext cx="9144000" cy="485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00"/>
                </a:solidFill>
                <a:latin typeface="New York"/>
                <a:ea typeface="Times New Roman"/>
              </a:rPr>
              <a:t>Condensation</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a) not used as much as might be supposed; research suggests that more than 60% of subtitles are translated fully (what Gottlieb calls 'transfer') - this reflects a general trend among translators to translate more than is necessar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b) based on questions of grammatical structure (i.e. on where it was</a:t>
            </a:r>
            <a:r>
              <a:rPr b="0" lang="it-IT" sz="2000" spc="-1" strike="noStrike">
                <a:solidFill>
                  <a:srgbClr val="000000"/>
                </a:solidFill>
                <a:latin typeface="New York"/>
                <a:ea typeface="Times New Roman"/>
              </a:rPr>
              <a:t> </a:t>
            </a:r>
            <a:r>
              <a:rPr b="0" lang="en-GB" sz="2000" spc="-1" strike="noStrike">
                <a:solidFill>
                  <a:srgbClr val="000000"/>
                </a:solidFill>
                <a:latin typeface="New York"/>
                <a:ea typeface="Times New Roman"/>
              </a:rPr>
              <a:t>possible to split clauses or clause complex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c) based on lip synchronisation consideration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d) based on intuitio</a:t>
            </a:r>
            <a:r>
              <a:rPr b="0" lang="it-IT" sz="2000" spc="-1" strike="noStrike">
                <a:solidFill>
                  <a:srgbClr val="000000"/>
                </a:solidFill>
                <a:latin typeface="New York"/>
                <a:ea typeface="Times New Roman"/>
              </a:rPr>
              <a:t>n: </a:t>
            </a:r>
            <a:r>
              <a:rPr b="0" lang="en-GB" sz="2000" spc="-1" strike="noStrike">
                <a:solidFill>
                  <a:srgbClr val="000000"/>
                </a:solidFill>
                <a:latin typeface="New York"/>
                <a:ea typeface="Times New Roman"/>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rcRect l="5537" t="15258" r="5906" b="5414"/>
          <a:stretch/>
        </p:blipFill>
        <p:spPr>
          <a:xfrm>
            <a:off x="228600" y="757080"/>
            <a:ext cx="8753400" cy="6100920"/>
          </a:xfrm>
          <a:prstGeom prst="rect">
            <a:avLst/>
          </a:prstGeom>
          <a:ln w="0">
            <a:noFill/>
          </a:ln>
        </p:spPr>
      </p:pic>
      <p:sp>
        <p:nvSpPr>
          <p:cNvPr id="5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imes New Roman"/>
              </a:rPr>
              <a:t>A Sample transcription for subtitling</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3429000" y="53352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352680" y="457200"/>
            <a:ext cx="1905120" cy="587520"/>
          </a:xfrm>
          <a:prstGeom prst="rect">
            <a:avLst/>
          </a:prstGeom>
          <a:solidFill>
            <a:srgbClr val="3333cc"/>
          </a:solidFill>
          <a:ln w="9360">
            <a:solidFill>
              <a:srgbClr val="ffff00"/>
            </a:solidFill>
            <a:miter/>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Multimodal</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nalysis</a:t>
            </a:r>
            <a:endParaRPr b="0" lang="en-US" sz="2000" spc="-1" strike="noStrike">
              <a:solidFill>
                <a:srgbClr val="000000"/>
              </a:solidFill>
              <a:latin typeface="Times New Roman"/>
            </a:endParaRPr>
          </a:p>
        </p:txBody>
      </p:sp>
      <p:sp>
        <p:nvSpPr>
          <p:cNvPr id="56" name=""/>
          <p:cNvSpPr/>
          <p:nvPr/>
        </p:nvSpPr>
        <p:spPr>
          <a:xfrm>
            <a:off x="5334120" y="533520"/>
            <a:ext cx="1904760" cy="725040"/>
          </a:xfrm>
          <a:prstGeom prst="rect">
            <a:avLst/>
          </a:prstGeom>
          <a:solidFill>
            <a:srgbClr val="3333cc"/>
          </a:solidFill>
          <a:ln w="9360">
            <a:solidFill>
              <a:srgbClr val="ffff00"/>
            </a:solidFill>
            <a:miter/>
          </a:ln>
        </p:spPr>
        <p:style>
          <a:lnRef idx="0"/>
          <a:fillRef idx="0"/>
          <a:effectRef idx="0"/>
          <a:fontRef idx="minor"/>
        </p:style>
        <p:txBody>
          <a:bodyPr lIns="90000" rIns="90000" tIns="46800" bIns="46800" anchor="t">
            <a:spAutoFit/>
          </a:bodyPr>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oundtrack</a:t>
            </a:r>
            <a:endParaRPr b="0" lang="en-US" sz="2000" spc="-1" strike="noStrike">
              <a:solidFill>
                <a:srgbClr val="000000"/>
              </a:solidFill>
              <a:latin typeface="Times New Roman"/>
            </a:endParaRPr>
          </a:p>
        </p:txBody>
      </p:sp>
      <p:sp>
        <p:nvSpPr>
          <p:cNvPr id="57" name=""/>
          <p:cNvSpPr/>
          <p:nvPr/>
        </p:nvSpPr>
        <p:spPr>
          <a:xfrm>
            <a:off x="7238880" y="533520"/>
            <a:ext cx="1905120" cy="847080"/>
          </a:xfrm>
          <a:prstGeom prst="rect">
            <a:avLst/>
          </a:prstGeom>
          <a:solidFill>
            <a:srgbClr val="3333cc"/>
          </a:solidFill>
          <a:ln w="9360">
            <a:solidFill>
              <a:srgbClr val="ffff00"/>
            </a:solidFill>
            <a:miter/>
          </a:ln>
        </p:spPr>
        <p:style>
          <a:lnRef idx="0"/>
          <a:fillRef idx="0"/>
          <a:effectRef idx="0"/>
          <a:fontRef idx="minor"/>
        </p:style>
        <p:txBody>
          <a:bodyPr lIns="90000" rIns="90000" tIns="46800" bIns="46800" anchor="t">
            <a:spAutoFit/>
          </a:bodyPr>
          <a:p>
            <a:pPr>
              <a:lnSpc>
                <a:spcPct val="1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ubtitle</a:t>
            </a:r>
            <a:endParaRPr b="0" lang="en-US" sz="2000" spc="-1" strike="noStrike">
              <a:solidFill>
                <a:srgbClr val="000000"/>
              </a:solidFill>
              <a:latin typeface="Times New Roman"/>
            </a:endParaRPr>
          </a:p>
        </p:txBody>
      </p:sp>
      <p:sp>
        <p:nvSpPr>
          <p:cNvPr id="58" name=""/>
          <p:cNvSpPr/>
          <p:nvPr/>
        </p:nvSpPr>
        <p:spPr>
          <a:xfrm>
            <a:off x="228600" y="507960"/>
            <a:ext cx="2819520" cy="725040"/>
          </a:xfrm>
          <a:prstGeom prst="rect">
            <a:avLst/>
          </a:prstGeom>
          <a:solidFill>
            <a:srgbClr val="3333cc"/>
          </a:solidFill>
          <a:ln w="9360">
            <a:solidFill>
              <a:srgbClr val="ffff00"/>
            </a:solidFill>
            <a:miter/>
          </a:ln>
        </p:spPr>
        <p:style>
          <a:lnRef idx="0"/>
          <a:fillRef idx="0"/>
          <a:effectRef idx="0"/>
          <a:fontRef idx="minor"/>
        </p:style>
        <p:txBody>
          <a:bodyPr lIns="90000" rIns="90000" tIns="46800" bIns="46800" anchor="t">
            <a:spAutoFit/>
          </a:bodyPr>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isual Fr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59" name=""/>
          <p:cNvSpPr/>
          <p:nvPr/>
        </p:nvSpPr>
        <p:spPr>
          <a:xfrm>
            <a:off x="0" y="1523880"/>
            <a:ext cx="91440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New York"/>
                <a:ea typeface="Times New Roman"/>
              </a:rPr>
              <a:t>Column One</a:t>
            </a:r>
            <a:r>
              <a:rPr b="0" lang="en-GB" sz="2800" spc="-1" strike="noStrike">
                <a:solidFill>
                  <a:srgbClr val="000000"/>
                </a:solidFill>
                <a:latin typeface="New York"/>
                <a:ea typeface="Times New Roman"/>
              </a:rPr>
              <a:t> </a:t>
            </a:r>
            <a:r>
              <a:rPr b="0" lang="it-IT" sz="2800" spc="-1" strike="noStrike">
                <a:solidFill>
                  <a:srgbClr val="000000"/>
                </a:solidFill>
                <a:latin typeface="New York"/>
                <a:ea typeface="Times New Roman"/>
              </a:rPr>
              <a:t> </a:t>
            </a:r>
            <a:r>
              <a:rPr b="0" lang="en-GB" sz="2800" spc="-1" strike="noStrike">
                <a:solidFill>
                  <a:srgbClr val="000000"/>
                </a:solidFill>
                <a:latin typeface="New York"/>
                <a:ea typeface="Times New Roman"/>
              </a:rPr>
              <a:t>(</a:t>
            </a:r>
            <a:r>
              <a:rPr b="0" lang="it-IT" sz="2800" spc="-1" strike="noStrike">
                <a:solidFill>
                  <a:srgbClr val="000000"/>
                </a:solidFill>
                <a:latin typeface="New York"/>
                <a:ea typeface="Times New Roman"/>
              </a:rPr>
              <a:t>MULTIMODAL ANALYSIS: </a:t>
            </a:r>
            <a:r>
              <a:rPr b="0" lang="en-GB" sz="2800" spc="-1" strike="noStrike">
                <a:solidFill>
                  <a:srgbClr val="000000"/>
                </a:solidFill>
                <a:latin typeface="New York"/>
                <a:ea typeface="Times New Roman"/>
              </a:rPr>
              <a:t>visual &amp; kinesic elements + interpreta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ew York"/>
                <a:ea typeface="Times New Roman"/>
              </a:rPr>
              <a:t>In terms of the actual transcription, as can be seen, several of the visual units are described using Thibault's </a:t>
            </a:r>
            <a:r>
              <a:rPr b="0" lang="it-IT" sz="2800" spc="-1" strike="noStrike">
                <a:solidFill>
                  <a:srgbClr val="000000"/>
                </a:solidFill>
                <a:latin typeface="New York"/>
                <a:ea typeface="Times New Roman"/>
              </a:rPr>
              <a:t>notation</a:t>
            </a:r>
            <a:r>
              <a:rPr b="0" lang="en-GB" sz="2800" spc="-1" strike="noStrike">
                <a:solidFill>
                  <a:srgbClr val="000000"/>
                </a:solidFill>
                <a:latin typeface="New York"/>
                <a:ea typeface="Times New Roman"/>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ew York"/>
                <a:ea typeface="Times New Roman"/>
              </a:rPr>
              <a:t>D = distance (very close, close, median, far, very fa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ew York"/>
                <a:ea typeface="Times New Roman"/>
              </a:rPr>
              <a:t>VC = visual collocation (of important, relevant element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ew York"/>
                <a:ea typeface="Times New Roman"/>
              </a:rPr>
              <a:t>VS = visual salience (what items are given prominenc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ew York"/>
                <a:ea typeface="Times New Roman"/>
              </a:rPr>
              <a:t>CR = colou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ew York"/>
                <a:ea typeface="Times New Roman"/>
              </a:rPr>
              <a:t>CO = coding orientation (natural or </a:t>
            </a:r>
            <a:r>
              <a:rPr b="0" lang="it-IT" sz="2800" spc="-1" strike="noStrike">
                <a:solidFill>
                  <a:srgbClr val="000000"/>
                </a:solidFill>
                <a:latin typeface="New York"/>
                <a:ea typeface="Times New Roman"/>
              </a:rPr>
              <a:t>un</a:t>
            </a:r>
            <a:r>
              <a:rPr b="0" lang="en-GB" sz="2800" spc="-1" strike="noStrike">
                <a:solidFill>
                  <a:srgbClr val="000000"/>
                </a:solidFill>
                <a:latin typeface="New York"/>
                <a:ea typeface="Times New Roman"/>
              </a:rPr>
              <a:t>r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ew York"/>
                <a:ea typeface="Times New Roman"/>
              </a:rPr>
              <a:t>VF = visual focus (gaz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0" name=""/>
          <p:cNvSpPr/>
          <p:nvPr/>
        </p:nvSpPr>
        <p:spPr>
          <a:xfrm>
            <a:off x="228600" y="30492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00"/>
                </a:solidFill>
                <a:latin typeface="Times New Roman"/>
              </a:rPr>
              <a:t>Not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d0d053"/>
            </a:gs>
            <a:gs pos="100000">
              <a:srgbClr val="ffff66"/>
            </a:gs>
          </a:gsLst>
          <a:lin ang="5400000"/>
        </a:gradFill>
      </p:bgPr>
    </p:bg>
    <p:spTree>
      <p:nvGrpSpPr>
        <p:cNvPr id="1" name=""/>
        <p:cNvGrpSpPr/>
        <p:nvPr/>
      </p:nvGrpSpPr>
      <p:grpSpPr>
        <a:xfrm>
          <a:off x="0" y="0"/>
          <a:ext cx="0" cy="0"/>
          <a:chOff x="0" y="0"/>
          <a:chExt cx="0" cy="0"/>
        </a:xfrm>
      </p:grpSpPr>
      <p:sp>
        <p:nvSpPr>
          <p:cNvPr id="61" name=""/>
          <p:cNvSpPr/>
          <p:nvPr/>
        </p:nvSpPr>
        <p:spPr>
          <a:xfrm>
            <a:off x="0" y="304920"/>
            <a:ext cx="9144000" cy="814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990000"/>
                </a:solidFill>
                <a:uFillTx/>
                <a:latin typeface="Times New Roman"/>
                <a:ea typeface="Times New Roman"/>
              </a:rPr>
              <a:t>Un Posto al Sol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ea typeface="Times New Roman"/>
              </a:rPr>
              <a:t>(maximum subtitl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Giulia, I'm not with you...This isn't a wish, it's sheer madnes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Giuli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Calm down. Let's talk...</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without getting angr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You've been telling me to be calm all my life...</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and this is what happen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Angel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What are you talking about?</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Is living with Franco a crim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For your mother and me</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it's like a stab in the back!</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Angel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You love being melodramatic!</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You asked me what I wanted.</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What are you talking abou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How could you think someone could ask you... </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what you want to... to... 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Angel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No, wait. What should I have said.?</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that I wanted a car?!... a hors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or a nice little dres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You're making fun of me?</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Don't think I'm letting you off scot-fre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Giuli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Listen, Renato, OK</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I agree, but please, let's tr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I know, Giulia...  Keep calm... sure...</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as you can see, I'm really cal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Giuli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So,  maybe we're all exaggeratin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Giuli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Angela's not sure about </a:t>
            </a:r>
            <a:r>
              <a:rPr b="0" i="1" lang="en-GB" sz="1800" spc="-1" strike="noStrike">
                <a:solidFill>
                  <a:srgbClr val="000000"/>
                </a:solidFill>
                <a:latin typeface="New York"/>
                <a:ea typeface="Times New Roman"/>
              </a:rPr>
              <a:t>this thing</a:t>
            </a:r>
            <a:r>
              <a:rPr b="0" lang="en-GB" sz="1800" spc="-1" strike="noStrike">
                <a:solidFill>
                  <a:srgbClr val="000000"/>
                </a:solidFill>
                <a:latin typeface="New York"/>
                <a:ea typeface="Times New Roman"/>
              </a:rPr>
              <a:t> she's thinking of.</a:t>
            </a:r>
            <a:r>
              <a:rPr b="0" lang="it-IT" sz="1800" spc="-1" strike="noStrike">
                <a:solidFill>
                  <a:srgbClr val="000000"/>
                </a:solidFill>
                <a:latin typeface="New York"/>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Maybe when she leaves colleg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Angela</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Mum!  Stop messing about!</a:t>
            </a: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I want to do </a:t>
            </a:r>
            <a:r>
              <a:rPr b="0" i="1" lang="en-GB" sz="1800" spc="-1" strike="noStrike">
                <a:solidFill>
                  <a:srgbClr val="000000"/>
                </a:solidFill>
                <a:latin typeface="New York"/>
                <a:ea typeface="Times New Roman"/>
              </a:rPr>
              <a:t>this thing</a:t>
            </a:r>
            <a:r>
              <a:rPr b="0" lang="en-GB" sz="1800" spc="-1" strike="noStrike">
                <a:solidFill>
                  <a:srgbClr val="000000"/>
                </a:solidFill>
                <a:latin typeface="New York"/>
                <a:ea typeface="Times New Roman"/>
              </a:rPr>
              <a:t>  now!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There's no reason to wai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You hear? "I want" ...  "now". These are the terms she uses.</a:t>
            </a:r>
            <a:r>
              <a:rPr b="0" lang="it-IT" sz="1800" spc="-1" strike="noStrike">
                <a:solidFill>
                  <a:srgbClr val="000000"/>
                </a:solidFill>
                <a:latin typeface="New York"/>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And these are the resul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 York"/>
                <a:ea typeface="Times New Roman"/>
              </a:rPr>
              <a:t>Renato</a:t>
            </a:r>
            <a:r>
              <a:rPr b="0" lang="en-GB" sz="1800" spc="-1" strike="noStrike">
                <a:solidFill>
                  <a:srgbClr val="000000"/>
                </a:solidFill>
                <a:latin typeface="New York"/>
                <a:ea typeface="Times New Roman"/>
              </a:rPr>
              <a:t>	</a:t>
            </a:r>
            <a:r>
              <a:rPr b="0" lang="en-GB" sz="1800" spc="-1" strike="noStrike">
                <a:solidFill>
                  <a:srgbClr val="000000"/>
                </a:solidFill>
                <a:latin typeface="New York"/>
                <a:ea typeface="Times New Roman"/>
              </a:rPr>
              <a:t>Damn the day you met that bastard!!</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ew York"/>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9T09:42:33Z</dcterms:created>
  <dc:creator>Università degli Studi di Pavia</dc:creator>
  <dc:description/>
  <dc:language>en-US</dc:language>
  <cp:lastModifiedBy>Università degli Studi di Pavia</cp:lastModifiedBy>
  <dcterms:modified xsi:type="dcterms:W3CDTF">2000-07-10T08:47:52Z</dcterms:modified>
  <cp:revision>12</cp:revision>
  <dc:subject/>
  <dc:title>Presentazione di PowerPoint</dc:title>
</cp:coreProperties>
</file>